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8.wmf" ContentType="image/x-wmf"/>
  <Override PartName="/ppt/media/image30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4.jpeg" ContentType="image/jpeg"/>
  <Override PartName="/ppt/media/image12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5.jpeg" ContentType="image/jpeg"/>
  <Override PartName="/ppt/media/image9.jpeg" ContentType="image/jpeg"/>
  <Override PartName="/ppt/media/image23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5.wmf" ContentType="image/x-wmf"/>
  <Override PartName="/ppt/media/image16.jpeg" ContentType="image/jpe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E153-0462-4CA3-BA86-DF31923DF15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quilibrium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quilibrium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panol is a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anol is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Conjug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panol is an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anol is an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Acid-Base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 of Resonance on p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 of Resonance on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Acid and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Acid and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quilibrium Favors React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quilibrium Favor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tions of Acids/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tions of Acids/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ic Acids can be Separated from non-acidic Compou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s can be Separated from non-acid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a new b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new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Base = Nucleophi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 = Electrop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 = Nucleophi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 = Electrop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aw the Acid-Base Comple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aw the Acid-Base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aw Ar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aw Ar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Conjugate B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.e. Which H is most acidic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Conjugate B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.e. Which H is most acidic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asuring Acid Strength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asuring Acid Strength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eprotonating one of the Hb protons, one can distribute the charge onto three atoms and give a major resonance structure with the charge on the Oxygen (the third structur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eprotonating one of the Hb protons, one can distribute the charge onto three atoms and give a major resonance structure with the charge on the Oxygen (the third struc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 defined by p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 defined by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sociation in H2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rhenius Acid forms H3O+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onsted-Lowry Acid donates a H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sociation in H2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rhenius Acid forms H3O+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onsted-Lowry Acid donates a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sonance Stab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sonance Stab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er Acid Controls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er Acid Controls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Described with Arr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Cl donates a prot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accepts a 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Described with Arr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 donates a prot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accept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899-23B2-4FF5-BF3D-E03125DE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DE67-66E9-4505-B50D-BFD66346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69B-1D79-42CB-AC64-491D8964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E06-E0BC-4E27-BF21-3C8E7C26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7E3-EBD4-41E6-B0D9-4AEA87D3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CB44-816E-446F-8ED8-AFDBB001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73B-620F-48F2-9B93-240E4A76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F59-4A71-4100-A3EF-FA348294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B65-5B72-4C3F-B17B-38D7FE66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A614-4AD9-47F0-9F07-D57B9CA7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9616-FDB3-4F78-AEC8-2C191688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E366-2D50-4447-BEC3-B794B9DE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31B4-BE7B-43E0-B6D5-95CED5713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Arrhen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quilibrium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Conjugate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763120" cy="6588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opanol is a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458200" cy="20080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Conjugate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772400" cy="11764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opanol is an 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22482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ome Acid-Base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http://wps.prenhall.com/wps/media/objects/340/348272/Instructor_Resources/Chapter_01/Text_Images/FG01_07-038UN.JPG"/>
          <p:cNvPicPr/>
          <p:nvPr/>
        </p:nvPicPr>
        <p:blipFill>
          <a:blip r:embed="rId1"/>
          <a:stretch/>
        </p:blipFill>
        <p:spPr>
          <a:xfrm>
            <a:off x="533520" y="1400040"/>
            <a:ext cx="7696080" cy="545796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http://wps.prenhall.com/wps/media/objects/340/348272/Instructor_Resources/Chapter_01/Text_Images/FG01_07-052UN.JPG"/>
          <p:cNvPicPr/>
          <p:nvPr/>
        </p:nvPicPr>
        <p:blipFill>
          <a:blip r:embed="rId1"/>
          <a:stretch/>
        </p:blipFill>
        <p:spPr>
          <a:xfrm>
            <a:off x="1187280" y="0"/>
            <a:ext cx="67694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http://wps.prenhall.com/wps/media/objects/340/348272/Instructor_Resources/Chapter_01/Text_Images/FG01_07-053UN.JPG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006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Effect of Resonance on p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dentify the Acid and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772400" cy="12589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quilibrium Favors React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2486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ons of Acids/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6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772400" cy="28843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arboxylic Acids can be Separated from non-acidic Compoun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86960" cy="48135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wis Acids and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153640" cy="3260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mation of a new b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8160" cy="4572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wps.prenhall.com/wps/media/objects/340/348272/Instructor_Resources/Chapter_01/Text_Images/FG01_07-055UN.JP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626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Lewis Base = </a:t>
            </a:r>
            <a:r>
              <a:rPr b="1" lang="en-US" sz="4400" spc="-1" strike="noStrike">
                <a:solidFill>
                  <a:srgbClr val="33cccc"/>
                </a:solidFill>
                <a:latin typeface="Times New Roman"/>
              </a:rPr>
              <a:t>Nucleophile</a:t>
            </a:r>
            <a:br>
              <a:rPr sz="4400"/>
            </a:b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Lewis Acid = </a:t>
            </a: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Electrop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the Acid-Base Compl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772400" cy="58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1295280" y="3581280"/>
            <a:ext cx="7315200" cy="752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1295280" y="4876920"/>
            <a:ext cx="6934320" cy="6001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5358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5628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raw Arr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56829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dentify the Conjugate Base</a:t>
            </a:r>
            <a:br>
              <a:rPr sz="44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i.e. Which H is most acidic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458200" cy="25686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asuring Acid Strength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Rectangle 3"/>
          <p:cNvGrpSpPr/>
          <p:nvPr/>
        </p:nvGrpSpPr>
        <p:grpSpPr>
          <a:xfrm>
            <a:off x="0" y="2200320"/>
            <a:ext cx="9144000" cy="1542960"/>
            <a:chOff x="0" y="2200320"/>
            <a:chExt cx="9144000" cy="1542960"/>
          </a:xfrm>
        </p:grpSpPr>
        <p:pic>
          <p:nvPicPr>
            <p:cNvPr id="56" name="Rectangle 3" descr=""/>
            <p:cNvPicPr/>
            <p:nvPr/>
          </p:nvPicPr>
          <p:blipFill>
            <a:blip r:embed="rId1"/>
            <a:stretch/>
          </p:blipFill>
          <p:spPr>
            <a:xfrm>
              <a:off x="0" y="2200320"/>
              <a:ext cx="91440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2200320"/>
              <a:ext cx="9144000" cy="15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2362320" y="2362320"/>
            <a:ext cx="6248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deprotonating one of the 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protons, one can distribute the charge onto three atoms and give a major resonance structure with the charge on the Oxygen (the third structure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9403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id Strength defined by pK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219320" y="1282680"/>
            <a:ext cx="7086600" cy="4592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sociation in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3600"/>
            </a:br>
            <a:r>
              <a:rPr b="0" lang="en-US" sz="3600" spc="-1" strike="noStrike" u="sng">
                <a:solidFill>
                  <a:srgbClr val="009900"/>
                </a:solidFill>
                <a:uFillTx/>
                <a:latin typeface="Times New Roman"/>
              </a:rPr>
              <a:t>Arrhenius Acid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 forms H</a:t>
            </a:r>
            <a:r>
              <a:rPr b="0" lang="en-US" sz="3600" spc="-1" strike="noStrike" baseline="-25000">
                <a:solidFill>
                  <a:srgbClr val="0099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0" lang="en-US" sz="36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br>
              <a:rPr sz="3600"/>
            </a:b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Bronsted-Lowry Acid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donates a H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http://wps.prenhall.com/wps/media/objects/340/348272/Instructor_Resources/Chapter_01/Text_Images/FG01_07-035UN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6528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onance Stabi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4276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tronger Acid Controls Equilib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7924680" cy="30067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action Described with Arrows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Cl donates a proton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 accepts a pro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02p31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18828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My Documents\My Pictures\Chapter 1\acid strengths.bmp"/>
          <p:cNvPicPr/>
          <p:nvPr/>
        </p:nvPicPr>
        <p:blipFill>
          <a:blip r:embed="rId1"/>
          <a:stretch/>
        </p:blipFill>
        <p:spPr>
          <a:xfrm>
            <a:off x="457200" y="41400"/>
            <a:ext cx="7620120" cy="6751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8:50:37Z</dcterms:created>
  <dc:creator>WILLIAM PRICE</dc:creator>
  <dc:description/>
  <dc:language>en-US</dc:language>
  <cp:lastModifiedBy>LEGION</cp:lastModifiedBy>
  <dcterms:modified xsi:type="dcterms:W3CDTF">2017-01-26T09:10:41Z</dcterms:modified>
  <cp:revision>26</cp:revision>
  <dc:subject/>
  <dc:title>Acids and Bases</dc:title>
</cp:coreProperties>
</file>